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625-2CD7-499E-8DE9-82A606BC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BBB7-AF63-4ACD-8F15-24D50406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7405-CFCB-4ABD-9852-D699CABF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F0AE-ACB9-48D7-83E4-BD149633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CEA-B21F-468E-871D-50317496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ACE-4E09-4669-B230-5AED7134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43F1-7914-4810-80B8-7F648FBB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7A54-202F-40BA-8078-AC763B4E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CA7-F580-49EB-9A11-F81B5D41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F569-D498-4966-995C-2F577908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676-1CA4-4B66-A688-B1BEA13D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C2B-CAC8-4517-B91E-101B8406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6CC2-FCA1-484B-A65E-0070D34920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195640" y="620640"/>
            <a:ext cx="4464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a85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0 клас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a85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6" descr="COMP04"/>
          <p:cNvPicPr/>
          <p:nvPr/>
        </p:nvPicPr>
        <p:blipFill>
          <a:blip r:embed="rId1"/>
          <a:stretch/>
        </p:blipFill>
        <p:spPr>
          <a:xfrm>
            <a:off x="324000" y="404640"/>
            <a:ext cx="1726920" cy="15829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2"/>
          <a:stretch/>
        </p:blipFill>
        <p:spPr>
          <a:xfrm>
            <a:off x="-274680" y="2712960"/>
            <a:ext cx="9686880" cy="18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826920" y="549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ля измерения больших объемов информации используются производные от байта едини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428840" y="15717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Tahoma"/>
              </a:rPr>
              <a:t>1 килобайт = 1 Кб =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929120" y="14288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357880" y="157176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Tahoma"/>
              </a:rPr>
              <a:t>байт = 1024 бай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571760" y="27147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Tahoma"/>
              </a:rPr>
              <a:t>1 мегабайт = 1 Мб =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5572080" y="27147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Tahoma"/>
              </a:rPr>
              <a:t>Кб = 1024 К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5143680" y="24289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571760" y="40719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Tahoma"/>
              </a:rPr>
              <a:t>1 гигабайт = 1Гб =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5214960" y="40719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Tahoma"/>
              </a:rPr>
              <a:t>Мб = 1024 М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4929120" y="37861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971640" y="260280"/>
            <a:ext cx="6924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70c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орость передачи информаци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70c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68360" y="1773360"/>
            <a:ext cx="3456000" cy="792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5435640" y="1773360"/>
            <a:ext cx="3457440" cy="792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755640" y="2060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Источник информ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5651640" y="198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риемник информ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3995640" y="2133720"/>
            <a:ext cx="1368360" cy="71280"/>
          </a:xfrm>
          <a:prstGeom prst="rightArrow">
            <a:avLst>
              <a:gd name="adj1" fmla="val 50000"/>
              <a:gd name="adj2" fmla="val 47992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067280" y="1700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на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067280" y="2349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яз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684360" y="321300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cc"/>
                </a:solidFill>
                <a:latin typeface="Tahoma"/>
              </a:rPr>
              <a:t>Прием – передача</a:t>
            </a:r>
            <a:r>
              <a:rPr b="1" lang="ru-RU" sz="2400" spc="-1" strike="noStrike">
                <a:solidFill>
                  <a:srgbClr val="ffccff"/>
                </a:solidFill>
                <a:latin typeface="Tahoma"/>
              </a:rPr>
              <a:t> информации происходит с разной скорость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250920" y="407664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Количество информации, передаваемое за единицу времени, называется скоростью передачи информации или скоростью информационного пото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468360" y="5877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           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Единицы: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990099"/>
                </a:solidFill>
                <a:latin typeface="Tahoma"/>
              </a:rPr>
              <a:t>бит</a:t>
            </a:r>
            <a:r>
              <a:rPr b="1" lang="en-US" sz="2400" spc="-1" strike="noStrike">
                <a:solidFill>
                  <a:srgbClr val="990099"/>
                </a:solidFill>
                <a:latin typeface="Tahoma"/>
              </a:rPr>
              <a:t>/c</a:t>
            </a:r>
            <a:r>
              <a:rPr b="1" lang="ru-RU" sz="2400" spc="-1" strike="noStrike">
                <a:solidFill>
                  <a:srgbClr val="990099"/>
                </a:solidFill>
                <a:latin typeface="Tahoma"/>
              </a:rPr>
              <a:t>, байт</a:t>
            </a:r>
            <a:r>
              <a:rPr b="1" lang="en-US" sz="2400" spc="-1" strike="noStrike">
                <a:solidFill>
                  <a:srgbClr val="990099"/>
                </a:solidFill>
                <a:latin typeface="Tahoma"/>
              </a:rPr>
              <a:t>/</a:t>
            </a:r>
            <a:r>
              <a:rPr b="1" lang="ru-RU" sz="2400" spc="-1" strike="noStrike">
                <a:solidFill>
                  <a:srgbClr val="990099"/>
                </a:solidFill>
                <a:latin typeface="Tahoma"/>
              </a:rPr>
              <a:t>с, Кбайт</a:t>
            </a:r>
            <a:r>
              <a:rPr b="1" lang="en-US" sz="2400" spc="-1" strike="noStrike">
                <a:solidFill>
                  <a:srgbClr val="990099"/>
                </a:solidFill>
                <a:latin typeface="Tahoma"/>
              </a:rPr>
              <a:t>/</a:t>
            </a:r>
            <a:r>
              <a:rPr b="1" lang="ru-RU" sz="2400" spc="-1" strike="noStrike">
                <a:solidFill>
                  <a:srgbClr val="990099"/>
                </a:solidFill>
                <a:latin typeface="Tahoma"/>
              </a:rPr>
              <a:t>с 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и т. 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250920" y="260280"/>
            <a:ext cx="8497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А теперь, изучив теоретический материал, пореша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1258920" y="2205000"/>
            <a:ext cx="6769080" cy="22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дачи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50920" y="1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Самостоятельно решить задач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ча 1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числите информационный объем сообщения: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Наступили холод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ри условии, что один символ кодируется 1 байтом.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ча 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жно ли уместить на одну дискету книгу, имеющую 432 страницы, причем на каждой странице этой книги 46 строк, а в каждой строке 62 символ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ча 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о племя имеет 32-символьный алфавит, а второе племя - 64-символьный алфавит. Вожди племен обменялись письмами. Письмо первого племени содержало 80 символов, а письмо второго племени -70 символов. Сравните объем информации, содержащийся в письм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5840" y="571680"/>
            <a:ext cx="83008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Домашнее зад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учить конспект урока и решить следующие задач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Подсчитать в килобайтах количество информации в тексте, если текст состоит из 600 символов, а мощность используемого алфавита – 128 символ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Скорость информационного потока – 20 бит/сек. Сколько времени потребуется для передачи информации объемом в 10 килобай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Сравните (поставьте знак отношен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0 байт и 0,25 Кбай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 байта и 24 би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536 бит и 1,5 Кбай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000 бит и 1 Кбай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192 байта и 1 Кбай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5"/>
          <p:cNvSpPr txBox="1"/>
          <p:nvPr/>
        </p:nvSpPr>
        <p:spPr>
          <a:xfrm>
            <a:off x="971640" y="765000"/>
            <a:ext cx="748800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лфавитный подход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000080" y="4214880"/>
            <a:ext cx="7561440" cy="12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 измерению информ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50920" y="33336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Мы научились определять количество информации, которое содержится в сообщениях, уменьшающих неопределенность наших знан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78000" y="3573360"/>
            <a:ext cx="838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Такой подход рассматривает информацию с точки зрения содержания, ее понятности и новизны для человека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468360" y="333360"/>
            <a:ext cx="792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ff"/>
                  </a:solidFill>
                  <a:miter/>
                </a:ln>
                <a:solidFill>
                  <a:srgbClr val="162e45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фавитный подход </a:t>
            </a:r>
            <a:endParaRPr b="1" lang="en-US" sz="1800" spc="1" strike="noStrike">
              <a:ln w="19080">
                <a:solidFill>
                  <a:srgbClr val="ffccff"/>
                </a:solidFill>
                <a:miter/>
              </a:ln>
              <a:solidFill>
                <a:srgbClr val="162e45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95280" y="1125360"/>
            <a:ext cx="838836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Tahoma"/>
              </a:rPr>
              <a:t>позволяет определить количество информации, заключенной в тексте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Tahoma"/>
              </a:rPr>
              <a:t>Алфавитный подход является объективным, т.е. он не зависит от субъекта (человека), воспринимающего текст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ножество символов, используемых при записи текста, называетс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Tahoma"/>
              </a:rPr>
              <a:t>алфавитом</a:t>
            </a:r>
            <a:r>
              <a:rPr b="0" lang="ru-RU" sz="2800" spc="-1" strike="noStrike">
                <a:solidFill>
                  <a:srgbClr val="990099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олное количество символов в алфавите называетс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Tahoma"/>
              </a:rPr>
              <a:t>мощностью (размером) алфавита</a:t>
            </a:r>
            <a:r>
              <a:rPr b="0" lang="ru-RU" sz="2800" spc="-1" strike="noStrike">
                <a:solidFill>
                  <a:srgbClr val="990099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Допустим, что появление любого символа в тексте равновероят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" name="Group 9"/>
          <p:cNvGrpSpPr/>
          <p:nvPr/>
        </p:nvGrpSpPr>
        <p:grpSpPr>
          <a:xfrm>
            <a:off x="5580000" y="4437000"/>
            <a:ext cx="2519280" cy="863640"/>
            <a:chOff x="5580000" y="4437000"/>
            <a:chExt cx="2519280" cy="863640"/>
          </a:xfrm>
        </p:grpSpPr>
        <p:sp>
          <p:nvSpPr>
            <p:cNvPr id="52" name="Rectangle 18"/>
            <p:cNvSpPr/>
            <p:nvPr/>
          </p:nvSpPr>
          <p:spPr>
            <a:xfrm>
              <a:off x="5580000" y="4437000"/>
              <a:ext cx="2519280" cy="863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3" name="Group 7"/>
            <p:cNvGrpSpPr/>
            <p:nvPr/>
          </p:nvGrpSpPr>
          <p:grpSpPr>
            <a:xfrm>
              <a:off x="5795640" y="4437000"/>
              <a:ext cx="2086920" cy="774720"/>
              <a:chOff x="5795640" y="4437000"/>
              <a:chExt cx="2086920" cy="774720"/>
            </a:xfrm>
          </p:grpSpPr>
          <p:sp>
            <p:nvSpPr>
              <p:cNvPr id="54" name="Text Box 10"/>
              <p:cNvSpPr/>
              <p:nvPr/>
            </p:nvSpPr>
            <p:spPr>
              <a:xfrm>
                <a:off x="5795640" y="4508280"/>
                <a:ext cx="934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ff"/>
                    </a:solidFill>
                    <a:latin typeface="Tahoma"/>
                  </a:rPr>
                  <a:t>2</a:t>
                </a: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Text Box 12"/>
              <p:cNvSpPr/>
              <p:nvPr/>
            </p:nvSpPr>
            <p:spPr>
              <a:xfrm>
                <a:off x="6443280" y="4437000"/>
                <a:ext cx="1439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Tahoma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ahoma"/>
                  </a:rPr>
                  <a:t>= N</a:t>
                </a: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6" name="Text Box 11"/>
            <p:cNvSpPr/>
            <p:nvPr/>
          </p:nvSpPr>
          <p:spPr>
            <a:xfrm>
              <a:off x="6227280" y="4437000"/>
              <a:ext cx="21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" name="Text Box 16"/>
          <p:cNvSpPr/>
          <p:nvPr/>
        </p:nvSpPr>
        <p:spPr>
          <a:xfrm>
            <a:off x="2268360" y="580536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ahoma"/>
              </a:rPr>
              <a:t>Где </a:t>
            </a:r>
            <a:r>
              <a:rPr b="1" lang="en-US" sz="2400" spc="-1" strike="noStrike">
                <a:solidFill>
                  <a:srgbClr val="660033"/>
                </a:solidFill>
                <a:latin typeface="Tahoma"/>
              </a:rPr>
              <a:t>N – </a:t>
            </a:r>
            <a:r>
              <a:rPr b="1" lang="ru-RU" sz="2400" spc="-1" strike="noStrike">
                <a:solidFill>
                  <a:srgbClr val="660033"/>
                </a:solidFill>
                <a:latin typeface="Tahoma"/>
              </a:rPr>
              <a:t>мощность алфав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755640" y="4221000"/>
            <a:ext cx="41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Каждый символ несет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бит информации. Число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i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можно определить из уравнения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8172360" y="4508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(1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68360" y="33336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ffff"/>
                </a:solidFill>
                <a:latin typeface="Tahoma"/>
              </a:rPr>
              <a:t>Таким образом, при алфавитном подходе к измерению информации количество информации от содержания не зависит. Количество информации зависит от объема текста и от мощности алфав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1285920" y="2133720"/>
            <a:ext cx="650088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о: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6600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68360" y="3187800"/>
            <a:ext cx="7850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Количество информации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одержащееся в символьном сообщении, равно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K x i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, где </a:t>
            </a:r>
            <a:r>
              <a:rPr b="1" lang="ru-RU" sz="2800" spc="-1" strike="noStrike">
                <a:solidFill>
                  <a:srgbClr val="990099"/>
                </a:solidFill>
                <a:latin typeface="Tahoma"/>
              </a:rPr>
              <a:t>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– число символов в тексте сообщения, а </a:t>
            </a:r>
            <a:r>
              <a:rPr b="1" lang="en-US" sz="2800" spc="-1" strike="noStrike">
                <a:solidFill>
                  <a:srgbClr val="990099"/>
                </a:solidFill>
                <a:latin typeface="Tahoma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информационный вес символа, который находится из уравнения (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3" name="Group 13"/>
          <p:cNvGrpSpPr/>
          <p:nvPr/>
        </p:nvGrpSpPr>
        <p:grpSpPr>
          <a:xfrm>
            <a:off x="6156360" y="5661000"/>
            <a:ext cx="2160360" cy="936720"/>
            <a:chOff x="6156360" y="5661000"/>
            <a:chExt cx="2160360" cy="936720"/>
          </a:xfrm>
        </p:grpSpPr>
        <p:sp>
          <p:nvSpPr>
            <p:cNvPr id="64" name="Rectangle 16"/>
            <p:cNvSpPr/>
            <p:nvPr/>
          </p:nvSpPr>
          <p:spPr>
            <a:xfrm>
              <a:off x="6156360" y="5661000"/>
              <a:ext cx="2160360" cy="93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WordArt 15"/>
            <p:cNvSpPr txBox="1"/>
            <p:nvPr/>
          </p:nvSpPr>
          <p:spPr>
            <a:xfrm>
              <a:off x="6229440" y="5805720"/>
              <a:ext cx="180972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C = K x i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Пример 1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Сообщение, записанное буквами из 64-символьного алфавита, содержит 20 символов. Какой объем информации оно несет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684360" y="62064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Минимальная мощность алфавита, пригодного для передачи информации равна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547640" y="1916280"/>
            <a:ext cx="59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826920" y="1844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Такой алфавит называют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двоичным алфави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39640" y="256536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Информационный вес символа двоичного алфав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143000" y="3429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i = 1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би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3571920" y="3571920"/>
            <a:ext cx="1873080" cy="360360"/>
          </a:xfrm>
          <a:prstGeom prst="rightArrow">
            <a:avLst>
              <a:gd name="adj1" fmla="val 50000"/>
              <a:gd name="adj2" fmla="val 129945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5572080" y="3429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6000840" y="3143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6286680" y="3429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=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611280" y="450864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Итак, один символ двоичного алфавита несет 1 бит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2"/>
          <p:cNvSpPr/>
          <p:nvPr/>
        </p:nvSpPr>
        <p:spPr>
          <a:xfrm>
            <a:off x="5651640" y="5229360"/>
            <a:ext cx="3024000" cy="936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50920" y="7650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Ограничения на максимальную мощность алфавита не существу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4000" y="184464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ahoma"/>
              </a:rPr>
              <a:t>Достаточный алфавит мощностью 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256</a:t>
            </a:r>
            <a:r>
              <a:rPr b="1" lang="ru-RU" sz="2800" spc="-1" strike="noStrike">
                <a:solidFill>
                  <a:srgbClr val="990099"/>
                </a:solidFill>
                <a:latin typeface="Tahoma"/>
              </a:rPr>
              <a:t> символов использует компьютер для внешнего представления текста и другой символьной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52360" y="386064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Один символ этого алфавита «весит»</a:t>
            </a:r>
            <a:r>
              <a:rPr b="1" lang="ru-RU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8 б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7020000" y="4508640"/>
            <a:ext cx="360360" cy="576000"/>
          </a:xfrm>
          <a:prstGeom prst="downArrow">
            <a:avLst>
              <a:gd name="adj1" fmla="val 50000"/>
              <a:gd name="adj2" fmla="val 3996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012000" y="5445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443640" y="5157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6804000" y="5445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= 25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WordArt 13"/>
          <p:cNvSpPr txBox="1"/>
          <p:nvPr/>
        </p:nvSpPr>
        <p:spPr>
          <a:xfrm>
            <a:off x="324000" y="5013360"/>
            <a:ext cx="403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байт = 8 би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c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6T06:05:53Z</dcterms:created>
  <dc:creator>1</dc:creator>
  <dc:description/>
  <dc:language>en-US</dc:language>
  <cp:lastModifiedBy>Admin</cp:lastModifiedBy>
  <dcterms:modified xsi:type="dcterms:W3CDTF">2010-10-22T11:35:23Z</dcterms:modified>
  <cp:revision>25</cp:revision>
  <dc:subject/>
  <dc:title>Слайд 1</dc:title>
</cp:coreProperties>
</file>